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B2F-DC0D-4155-BFBD-5BECA486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080-4F08-471F-8662-44F568F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297-C4EC-4237-85B6-B731909C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98A-C99C-4333-8496-466A931C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B42-81CB-4203-AFFA-35E4074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F58-DCA8-4B28-97D8-AFEE522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C1C-C00C-41C3-BB8B-558B0A6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1F5-F306-4D3D-A4D4-0B41683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9E2-1AC8-4DDA-BB6E-7EBF95DD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CDD-E187-4844-9629-0860FBE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8B2-E387-4FD8-9369-9675831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7E8-FACE-40B5-8194-83102A9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863-11EE-4DA1-864D-958860B30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219320" y="152388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fi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e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 un enf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66680" y="1066680"/>
            <a:ext cx="70866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naissa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rinces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fait un gr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762120" y="914400"/>
            <a:ext cx="77724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7 fé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royau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les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6248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 #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#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o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éb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ét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t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êt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les autres fées, si!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 n’av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s un couvert en o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croit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…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d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de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tion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tous 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se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762120" y="838080"/>
            <a:ext cx="761976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6 ans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aissanc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lle vo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usea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d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veil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10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 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avan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dormi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a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dormir tl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100 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6553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dort, la d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ie…..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et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réveill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   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de suit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Heart 2"/>
          <p:cNvSpPr/>
          <p:nvPr/>
        </p:nvSpPr>
        <p:spPr>
          <a:xfrm>
            <a:off x="7620120" y="5257800"/>
            <a:ext cx="761760" cy="685800"/>
          </a:xfrm>
          <a:custGeom>
            <a:avLst/>
            <a:gdLst>
              <a:gd name="textAreaLeft" fmla="*/ 126720 w 761760"/>
              <a:gd name="textAreaRight" fmla="*/ 635040 w 76176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762000" h="685800">
                <a:moveTo>
                  <a:pt x="381000" y="171450"/>
                </a:moveTo>
                <a:cubicBezTo>
                  <a:pt x="539750" y="-228600"/>
                  <a:pt x="1158875" y="171450"/>
                  <a:pt x="381000" y="685800"/>
                </a:cubicBezTo>
                <a:cubicBezTo>
                  <a:pt x="-396875" y="171450"/>
                  <a:pt x="222250" y="-228600"/>
                  <a:pt x="381000" y="17145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…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ive dans la forê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rbres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eille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2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ér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mér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914400" y="1371600"/>
            <a:ext cx="72388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rai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iciel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914400" y="1066680"/>
            <a:ext cx="746748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fants o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et la re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s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s en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 avai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â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t la princes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st percé la ma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990720"/>
            <a:ext cx="7848360" cy="45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’ann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rmait le royau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enac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inv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grand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e baptê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éveil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dit 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nce qui habi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 pala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6 ans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l’a interdi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et la re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0 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’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ie le pri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a princess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ait la grand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e baptê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ca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é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ut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erni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le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ne da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838080" y="106668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mari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interdi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û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il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dit de fi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souvient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âpisse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eau tom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co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s volontaire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jeune f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ut parler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nière pour….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l de la vie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an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c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grand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4" descr="C:\Users\Phyllis\AppData\Local\Microsoft\Windows\Temporary Internet Files\Content.IE5\X4LDVMWH\MC900412796[1].wmf"/>
          <p:cNvPicPr/>
          <p:nvPr/>
        </p:nvPicPr>
        <p:blipFill>
          <a:blip r:embed="rId1"/>
          <a:stretch/>
        </p:blipFill>
        <p:spPr>
          <a:xfrm>
            <a:off x="1981080" y="990720"/>
            <a:ext cx="541044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066680" y="1295280"/>
            <a:ext cx="6172200" cy="4876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C:\Users\Phyllis\AppData\Local\Microsoft\Windows\Temporary Internet Files\Content.IE5\81EWQ513\MC900412426[1].wmf"/>
          <p:cNvPicPr/>
          <p:nvPr/>
        </p:nvPicPr>
        <p:blipFill>
          <a:blip r:embed="rId1"/>
          <a:stretch/>
        </p:blipFill>
        <p:spPr>
          <a:xfrm>
            <a:off x="2666880" y="1600200"/>
            <a:ext cx="30052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4" descr="img422"/>
          <p:cNvPicPr/>
          <p:nvPr/>
        </p:nvPicPr>
        <p:blipFill>
          <a:blip r:embed="rId1"/>
          <a:stretch/>
        </p:blipFill>
        <p:spPr>
          <a:xfrm>
            <a:off x="2057400" y="914400"/>
            <a:ext cx="5486400" cy="5440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rossignol.jpg"/>
          <p:cNvPicPr/>
          <p:nvPr/>
        </p:nvPicPr>
        <p:blipFill>
          <a:blip r:embed="rId2"/>
          <a:stretch/>
        </p:blipFill>
        <p:spPr>
          <a:xfrm>
            <a:off x="2286000" y="11430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2" name="Picture 3" descr="img424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5437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couvert.png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523880" y="770040"/>
            <a:ext cx="5639040" cy="5486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1295280" y="762120"/>
            <a:ext cx="5943600" cy="5486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C:\Users\Phyllis\AppData\Local\Microsoft\Windows\Temporary Internet Files\Content.IE5\X4LDVMWH\MC900412612[1].wmf"/>
          <p:cNvPicPr/>
          <p:nvPr/>
        </p:nvPicPr>
        <p:blipFill>
          <a:blip r:embed="rId2"/>
          <a:stretch/>
        </p:blipFill>
        <p:spPr>
          <a:xfrm>
            <a:off x="2286000" y="950760"/>
            <a:ext cx="4724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Je suis fatigué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éb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iei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usea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00 a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rmir: 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endormir: 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 passé compos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le a dorm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le s’est endor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ét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… et un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29T13:35:26Z</dcterms:modified>
  <cp:revision>80</cp:revision>
  <dc:subject/>
  <dc:title>No Slide Title</dc:title>
</cp:coreProperties>
</file>